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90E-095C-4764-9EB4-A1254FAF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060-21D8-4C88-99A9-D9D88D6E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B73-189A-431E-B4CC-25E4824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7DC-2156-4FA3-8F23-07F7E8B0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930-989A-4DBC-8260-E8B90154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131-366F-46BA-9C2D-78092F0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0A9-DCF1-4944-81FF-CA188CA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836-9CB5-4E7F-9A90-DBF9BE5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20A-F1C7-4EE8-8244-A6A68FF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56E-65C8-4147-A84A-1CE790C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CE0-B296-4B68-9C88-730D528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667-47C1-4AA0-BA2D-33730ED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1D1-8511-43D4-8D16-F6DD0CD435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8 Lost in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ory 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have a sister. Her name is Kit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e lives in the city. I miss her very much. Today, I am going to visit 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many new streets in the city. Where is my sister’s h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meet a nice dog. The dog says, “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! Go straight and turn lef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549360"/>
            <a:ext cx="244944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use 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2205000"/>
            <a:ext cx="180000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060640"/>
            <a:ext cx="3600360" cy="1368360"/>
          </a:xfrm>
          <a:prstGeom prst="wedgeRoundRectCallout">
            <a:avLst>
              <a:gd name="adj1" fmla="val -43518"/>
              <a:gd name="adj2" fmla="val 9524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lost. Where is the NIC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en I get there, I see the MICE house, not the NICE house. Oh 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44040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4149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eet an old bird. The old bird says, “Go straight and turn right at the traffic lights. Then you will see the NICE house on the lef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692280"/>
            <a:ext cx="29530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use me, where is the NICE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2852640"/>
            <a:ext cx="237492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1628640"/>
            <a:ext cx="280836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ll show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75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I get to the NICE house. My sister is happy to see me. I say, “What a big city! I got lost, but a dog and a bird helpe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1268280"/>
            <a:ext cx="2592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isse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2133720"/>
            <a:ext cx="338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issed you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nd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7756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helps the cat find the NICE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 ou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8:08:07Z</dcterms:created>
  <dc:creator/>
  <dc:description/>
  <dc:language>en-US</dc:language>
  <cp:lastModifiedBy/>
  <dcterms:modified xsi:type="dcterms:W3CDTF">2018-08-18T03:10:40Z</dcterms:modified>
  <cp:revision>4</cp:revision>
  <dc:subject/>
  <dc:title/>
</cp:coreProperties>
</file>